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014-1317-4904-9BED-8B1BDA756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9DC9-2145-4EF2-874B-E0E21B60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5A28-AE5F-4BA5-B16B-EBA7ABEF9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19E-E8A9-40B9-8233-95D45408E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AF79-3DDF-48D7-9900-193A108F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5F5E6-33FC-49CA-A380-B4B95C9C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CA2B-15DC-4220-809D-5A71FDFA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67F8-F458-46AB-BE09-4934F99D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067B-973B-4580-8829-E54BCE67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815A-C57A-4B3F-B2B7-D2F971A1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417D-EBE8-4F15-9687-00CBBBD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B2DE-F1E4-4E52-A248-E37D5C34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0064-B4AA-4B63-AC2C-DB6467D9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9C16-2D46-44E4-A700-A1B56A50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C46F-A674-43B2-9086-8068AC57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1724-F36D-4414-A047-11EB4F9E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A119-23E7-46EC-8916-BA48880A2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A822-4BA5-46F6-A97E-63A7D795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F0D1-BA76-402D-8194-9D18905F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6CB-7748-4C87-9D3E-E65E2807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26FE-16F6-4A09-898D-8F9FE10B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AF6-BD92-4285-8D32-DA9DC507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87CE-2EF6-4709-9531-C0DA2081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95E0-EE66-4881-9515-3ED412DA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c0c0c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BDE-4538-4BE8-8FBF-11EC42865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c0c0c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99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C614F-891A-402A-BEE8-BDFFB3DB6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imes New Roman"/>
              </a:rPr>
              <a:t>31,000 deaths annually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Times New Roman"/>
              </a:rPr>
              <a:t>2004                32,43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2003                31,48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2002              31,65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Times New Roman"/>
              </a:rPr>
              <a:t>2001              30,62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2000             29,3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1999            29,1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33"/>
                </a:solidFill>
                <a:latin typeface="Times New Roman"/>
              </a:rPr>
              <a:t>1998             30,5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9800" y="5638680"/>
            <a:ext cx="49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ttributed to suic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33"/>
                </a:solidFill>
                <a:latin typeface="Times New Roman"/>
              </a:rPr>
              <a:t>Timing of USA suicides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419120" cy="1714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58672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 suicide every 17 min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84 suicides every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4316 young peopl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(age 15-2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mmit suicide each year (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t a rate o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e suicide every two hou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76720" y="3048120"/>
            <a:ext cx="27194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Times New Roman"/>
              </a:rPr>
              <a:t>Suicide is a leading cause of death (2004)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i="1" lang="en-US" sz="1800" spc="-1" strike="noStrike" u="sng">
                <a:solidFill>
                  <a:srgbClr val="660033"/>
                </a:solidFill>
                <a:uFillTx/>
                <a:latin typeface="Times New Roman"/>
              </a:rPr>
              <a:t>Rank &amp; Cause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         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660033"/>
                </a:solidFill>
                <a:latin typeface="Times New Roman"/>
              </a:rPr>
              <a:t>                                   </a:t>
            </a:r>
            <a:r>
              <a:rPr b="1" i="1" lang="en-US" sz="1800" spc="-1" strike="noStrike" u="sng">
                <a:solidFill>
                  <a:srgbClr val="660033"/>
                </a:solidFill>
                <a:uFillTx/>
                <a:latin typeface="Times New Roman"/>
              </a:rPr>
              <a:t>Number of deat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.   Diseases of the heart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652.48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2.   Malignant neoplasm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(cancer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533,88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3.   Cerebrovascular diseases (stroke)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50,0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4.   Chronic obstructive pulmonary disease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21,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5.   Accident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112,0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6.   Diabetes mellitus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73,13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lzheimer’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Disease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65,96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8.</a:t>
            </a:r>
            <a:r>
              <a:rPr b="1" lang="en-US" sz="2000" spc="-1" strike="noStrike">
                <a:solidFill>
                  <a:srgbClr val="660033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neumonia and influenza                                                               59,6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9.   Nephritis, nephrosis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42,4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0. Septicemia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33,37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11. Suicide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32,43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</a:rPr>
              <a:t>Ranking 11th in the U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 u="sng">
                <a:solidFill>
                  <a:srgbClr val="660033"/>
                </a:solidFill>
                <a:uFillTx/>
                <a:latin typeface="Times New Roman"/>
              </a:rPr>
              <a:t>National ranking and rate of suicide, 2004</a:t>
            </a:r>
            <a:endParaRPr b="0" lang="en-US" sz="3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1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Alask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23.6                    18  Tennessee            13.4</a:t>
            </a: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36  Georgia                10.9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ontan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9                    18  Washington         13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6  Michigan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evada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0  Arkansas              13.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8  Minnesot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4   New Mexico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8.7                    21  Maine                   13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9  New Hampshire  1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5   Wyoming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1  Missouri               12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39  Texas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6   Colorado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7.3                    23  Mississippi           12.1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1  Nebraska               9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7   Idaho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4  North Carolina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2  California              9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8   West Virginia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7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4  Wisconsin         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3  Hawaii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9.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09   Utah  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6                    24  Alabama               12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4  Maryland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9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0   Oregon  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7  Louisiana              11.9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5  Connecticut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8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1  Arizon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8  Iowa                      11.6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6  Illinois                    8.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2  Vermont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.0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Ohio                 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7  Rhode Island         7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  South Dakot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South Carolina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8  New Jersey            6.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  Oklahom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4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29  North Dakota       11.5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49  Massachusetts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6.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5  Florida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7                    32  Pennsylvania        11.4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50  New York              6.2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  Kansas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5                    33  Indiana                 11.3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51  Washington, DC   6.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6  Kentucky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13.5                    34  Delaware              11.2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                                             35  Virginia                11.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Times New Roman"/>
              </a:rPr>
              <a:t>USA Total Rate  11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timates on attempted suic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87560" y="13953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521080" y="15238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054240" y="12193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4121280" y="1295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648320" y="1447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7"/>
          <a:stretch/>
        </p:blipFill>
        <p:spPr>
          <a:xfrm>
            <a:off x="1371600" y="1547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8"/>
          <a:stretch/>
        </p:blipFill>
        <p:spPr>
          <a:xfrm>
            <a:off x="5181480" y="17762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9"/>
          <a:stretch/>
        </p:blipFill>
        <p:spPr>
          <a:xfrm>
            <a:off x="1073160" y="2690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0"/>
          <a:stretch/>
        </p:blipFill>
        <p:spPr>
          <a:xfrm>
            <a:off x="1606680" y="24620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1"/>
          <a:stretch/>
        </p:blipFill>
        <p:spPr>
          <a:xfrm>
            <a:off x="2139840" y="269064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2"/>
          <a:stretch/>
        </p:blipFill>
        <p:spPr>
          <a:xfrm>
            <a:off x="2673360" y="2438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3"/>
          <a:stretch/>
        </p:blipFill>
        <p:spPr>
          <a:xfrm>
            <a:off x="3206880" y="26668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4"/>
          <a:stretch/>
        </p:blipFill>
        <p:spPr>
          <a:xfrm>
            <a:off x="3809880" y="251460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5"/>
          <a:stretch/>
        </p:blipFill>
        <p:spPr>
          <a:xfrm>
            <a:off x="4349880" y="274320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6"/>
          <a:stretch/>
        </p:blipFill>
        <p:spPr>
          <a:xfrm>
            <a:off x="274968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7"/>
          <a:stretch/>
        </p:blipFill>
        <p:spPr>
          <a:xfrm>
            <a:off x="3359160" y="39625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18"/>
          <a:stretch/>
        </p:blipFill>
        <p:spPr>
          <a:xfrm>
            <a:off x="388620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19"/>
          <a:stretch/>
        </p:blipFill>
        <p:spPr>
          <a:xfrm>
            <a:off x="4425840" y="3733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0"/>
          <a:stretch/>
        </p:blipFill>
        <p:spPr>
          <a:xfrm>
            <a:off x="7323120" y="2971800"/>
            <a:ext cx="52560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1"/>
          <a:stretch/>
        </p:blipFill>
        <p:spPr>
          <a:xfrm>
            <a:off x="2209680" y="3733920"/>
            <a:ext cx="527040" cy="1728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83240" y="6303960"/>
            <a:ext cx="70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i="1" lang="en-US" sz="2000" spc="-1" strike="noStrike" u="sng">
                <a:solidFill>
                  <a:srgbClr val="000066"/>
                </a:solidFill>
                <a:uFillTx/>
                <a:latin typeface="Times New Roman"/>
              </a:rPr>
              <a:t>Note</a:t>
            </a:r>
            <a:r>
              <a:rPr b="1" i="1" lang="en-US" sz="2000" spc="-1" strike="noStrike">
                <a:solidFill>
                  <a:srgbClr val="000066"/>
                </a:solidFill>
                <a:latin typeface="Times New Roman"/>
              </a:rPr>
              <a:t>:  31,000 suicides translates into 775,000 attempts annuall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2"/>
          <a:stretch/>
        </p:blipFill>
        <p:spPr>
          <a:xfrm>
            <a:off x="5486400" y="284328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3"/>
          <a:stretch/>
        </p:blipFill>
        <p:spPr>
          <a:xfrm>
            <a:off x="4883040" y="25909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4"/>
          <a:stretch/>
        </p:blipFill>
        <p:spPr>
          <a:xfrm>
            <a:off x="5035680" y="3581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5"/>
          <a:stretch/>
        </p:blipFill>
        <p:spPr>
          <a:xfrm>
            <a:off x="1606680" y="3505320"/>
            <a:ext cx="527040" cy="1728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631880" y="580536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5 attempts for each documented dea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Number of suicide survivo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It is estimated that there 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6 surviv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for each death by suic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660033"/>
                </a:solidFill>
                <a:uFillTx/>
                <a:latin typeface="Times New Roman"/>
              </a:rPr>
              <a:t>Note</a:t>
            </a: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:  A “suicide survivor” is someone who has l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a loved one to death by suic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The ratio of 6 survivors per suici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Times New Roman"/>
              </a:rPr>
              <a:t>means there ar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6 new survivors every 17 minu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660033"/>
                </a:solidFill>
                <a:uFillTx/>
                <a:latin typeface="Times New Roman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504 new survivors each d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urvivors in the U.S. popul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873080"/>
          <a:ext cx="624852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73080"/>
                    <a:ext cx="624852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380880" y="556272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 of every 62 Americans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s estimated to be a suicide  surviv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82840" y="1752480"/>
            <a:ext cx="2189520" cy="764280"/>
          </a:xfrm>
          <a:prstGeom prst="rect">
            <a:avLst/>
          </a:prstGeom>
          <a:solidFill>
            <a:srgbClr val="c0c0c0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4,395,4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suicide survivo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75640" y="3352680"/>
            <a:ext cx="2213640" cy="764280"/>
          </a:xfrm>
          <a:prstGeom prst="rect">
            <a:avLst/>
          </a:prstGeom>
          <a:solidFill>
            <a:srgbClr val="c0c0c0"/>
          </a:solidFill>
          <a:ln w="7632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732,58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33"/>
                </a:solidFill>
                <a:latin typeface="Times New Roman"/>
              </a:rPr>
              <a:t>deaths by suicid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45:01Z</dcterms:created>
  <dc:creator>Vickie Watson</dc:creator>
  <dc:description/>
  <dc:language>en-US</dc:language>
  <cp:lastModifiedBy>Owner</cp:lastModifiedBy>
  <cp:lastPrinted>2000-08-12T16:34:22Z</cp:lastPrinted>
  <dcterms:modified xsi:type="dcterms:W3CDTF">2007-04-05T20:58:06Z</dcterms:modified>
  <cp:revision>37</cp:revision>
  <dc:subject/>
  <dc:title>Suicide in America</dc:title>
</cp:coreProperties>
</file>